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9A73-6252-4E42-8BD7-3DDA7F40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A144-A250-4842-BFEE-A6AC097F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4D67-75E8-441D-9C4F-A72C2397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7BDC-4D25-4EDA-A883-268301F2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F9B7-C00B-4566-BF48-A480D620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3393-95CE-4EFE-A485-2E23AC5D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BA6A-D9CF-4292-9523-3A817FB5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E725-B394-4FAC-B960-5E87115D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D790-40C1-4016-BED1-FCC1ACCB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D852-4575-460E-ABA3-784929C4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FB55-A2A5-4298-BFD9-510693B9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B69A-E1A2-42A9-99D1-67F0B8AD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C53F-2564-49A4-B44B-40E64E5E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74E3-A272-45E6-B77D-055C290E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3C8E-664C-46CE-8F3F-ACB8FF5E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A4C3-DFE0-49FC-AB95-294C4C09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04E6-58EB-48F6-8A39-512F2EB9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7C7C-4F70-465A-AC00-8BEF21B3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0252-7E31-45BF-A47D-B7B513B6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08F9-CFA8-4759-886F-B50F0862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627E-73D6-4D29-8F8D-C26EA8D9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EB86-C4C4-4744-81DE-BECC5D4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103E-82B1-4C7D-A21B-62A2F2FA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D0D9-116B-463E-8F96-7E00B902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191A-BF77-422A-A75A-2DDE95E67A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70DC-D5F4-4527-A7B7-F02141AD1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mailto:ykong80@sohu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华文行楷"/>
              </a:rPr>
              <a:t>设计实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成像物镜设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676520" y="3808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4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输入孔径类型</a:t>
            </a: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波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648320" cy="3564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424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133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5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同比缩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648040" cy="4419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9433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72400" cy="445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85800" y="8380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2133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6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视场设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2666880" y="457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7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77240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6705360" cy="5081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73356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rcRect l="0" t="10364" r="0" b="0"/>
          <a:stretch/>
        </p:blipFill>
        <p:spPr>
          <a:xfrm>
            <a:off x="304920" y="1371600"/>
            <a:ext cx="8229600" cy="41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281916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533520" y="685800"/>
            <a:ext cx="784836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66"/>
                </a:solidFill>
                <a:latin typeface="Arial"/>
              </a:rPr>
              <a:t>评价函数操作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像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PHA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球差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OMA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彗差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STI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像散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CUR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场曲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IST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畸变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调制传递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TFT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子午面传递函数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TFS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弧矢面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TF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MTFA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基本光学特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FFL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焦距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MAG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近轴放大率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MAG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角放大率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XPP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出瞳距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SFN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像方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数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边界约束条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TGT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中心厚度大于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TLT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中心厚度小于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TGT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TLT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（边缘厚度小于）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VGT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（曲率大于）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V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基本计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bso(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绝对值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SIN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OSI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015040" cy="3283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609480" y="533520"/>
            <a:ext cx="80010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边界约束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两种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GT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心厚度大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LT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心厚度小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G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L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VG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VL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缺省优化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609480" y="2971800"/>
            <a:ext cx="1524240" cy="1676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5410080" y="2819520"/>
            <a:ext cx="3171960" cy="3838320"/>
          </a:xfrm>
          <a:prstGeom prst="rect">
            <a:avLst/>
          </a:prstGeom>
          <a:ln w="0">
            <a:noFill/>
          </a:ln>
        </p:spPr>
      </p:pic>
      <p:sp>
        <p:nvSpPr>
          <p:cNvPr id="160" name="Oval 9"/>
          <p:cNvSpPr/>
          <p:nvPr/>
        </p:nvSpPr>
        <p:spPr>
          <a:xfrm>
            <a:off x="5562720" y="4800600"/>
            <a:ext cx="312408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01040" cy="4157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609480" y="4572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光学系统设计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38080" y="1447920"/>
            <a:ext cx="739152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光学系统设计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确定设计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光学系统外形尺寸计算，可行性分析，设计指标修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光学系统初始结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像差平衡，必要时修改初始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、像质评价与公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、绘制光学系统图、零件图（我们不要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、完成设计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666880" y="457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8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像质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065760" cy="269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055680" cy="269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990720" y="1143000"/>
            <a:ext cx="30272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未命名"/>
          <p:cNvPicPr/>
          <p:nvPr/>
        </p:nvPicPr>
        <p:blipFill>
          <a:blip r:embed="rId1"/>
          <a:stretch/>
        </p:blipFill>
        <p:spPr>
          <a:xfrm>
            <a:off x="1905120" y="914400"/>
            <a:ext cx="500544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2666880" y="457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9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给出报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419360" cy="3922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04920" y="1295280"/>
            <a:ext cx="8381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电子文件：学号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ZEX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发到邮箱：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ykong80@sohu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纸质文件：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ystem Data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port Graphic 6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交给班长，收齐后交给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819760" cy="147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2724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2514600" y="457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10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：评分标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2120" y="1905120"/>
            <a:ext cx="7772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设计结果应达到指标要求，在同样像质情况下，片数少的得分比片数多的高，材料普通的得分比材料贵重的高；在同样结构情况下，最低的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MTF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值高的得分高，材料普通的得分高；同样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MTF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情况下，弥散斑小的比弥散斑大的得分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"/>
          <p:cNvSpPr/>
          <p:nvPr/>
        </p:nvSpPr>
        <p:spPr>
          <a:xfrm>
            <a:off x="304920" y="1166760"/>
            <a:ext cx="883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评价函数操作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A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球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A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彗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I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UR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场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畸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调制传递函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F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子午面传递函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FS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弧矢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F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FA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基本光学特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L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焦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AG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近轴放大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G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角放大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P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瞳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FN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边界约束条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心厚度大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L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心厚度小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G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LT CVG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基本计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绝对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N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I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边界约束条件： 两种方法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G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心厚度大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LT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心厚度小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G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LT CVG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L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缺省优化函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-2743200" y="0"/>
            <a:ext cx="1417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81880" cy="6127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90720" y="6858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光学设计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6094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光学设计初始结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76520" y="1905120"/>
            <a:ext cx="617220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计算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计算结合经验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经验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查资料法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径、视场、波长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距，整体缩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3049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查资料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04920" y="1905120"/>
            <a:ext cx="2743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E.F.L----Eff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Focus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（有效焦距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B.F.L----Back Foc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（后工作距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FNo.----F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（相对孔径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F.A.----Field Ang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0000ff"/>
                </a:solidFill>
                <a:latin typeface="Times New Roman"/>
              </a:rPr>
              <a:t>视场角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586728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049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照相物镜设计实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066680" y="266688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62120" y="1600200"/>
            <a:ext cx="7315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照相物镜的技术指标要求</a:t>
            </a:r>
            <a:r>
              <a:rPr b="1" i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距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’=9.6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距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’=9.6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对孔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/f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/2.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像传感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/2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寸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C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像面大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32mm×5.76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工作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可见光波段设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种色光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主波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像质量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TF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% @100 lp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707 &gt;35%@100 lp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畸变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76212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1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确定照相物镜的基本性能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62120" y="1752480"/>
            <a:ext cx="7010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距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’=9.6m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No.&gt;1/2.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高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’=sq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76^2+4.32^2)/2=3.6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场角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t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’/f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20.5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工作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远距比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5/9.6=0.5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可见光波段设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种色光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主波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像质量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TF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40%@100 lp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707 &gt;35%@100 lp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畸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9"/>
          <p:cNvGrpSpPr/>
          <p:nvPr/>
        </p:nvGrpSpPr>
        <p:grpSpPr>
          <a:xfrm>
            <a:off x="5854680" y="1003320"/>
            <a:ext cx="3352680" cy="2026440"/>
            <a:chOff x="5854680" y="1003320"/>
            <a:chExt cx="3352680" cy="2026440"/>
          </a:xfrm>
        </p:grpSpPr>
        <p:sp>
          <p:nvSpPr>
            <p:cNvPr id="123" name="Rectangle 7"/>
            <p:cNvSpPr/>
            <p:nvPr/>
          </p:nvSpPr>
          <p:spPr>
            <a:xfrm>
              <a:off x="6464160" y="1473120"/>
              <a:ext cx="1600200" cy="99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854680" y="196848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7264440" y="10033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>
              <a:off x="6464160" y="23241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8064360" y="2298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6464160" y="26924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7873920" y="1473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>
              <a:off x="7899120" y="2463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8292960" y="14731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6845040" y="269244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.76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7"/>
            <p:cNvSpPr/>
            <p:nvPr/>
          </p:nvSpPr>
          <p:spPr>
            <a:xfrm>
              <a:off x="8216640" y="16254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.32m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H="1" flipV="1">
              <a:off x="6463800" y="147312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209680" y="380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2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确定初始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1550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209680" y="380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Step 3: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输入初始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5345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UJIE</cp:lastModifiedBy>
  <dcterms:modified xsi:type="dcterms:W3CDTF">2010-06-06T10:15:35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