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F88B-522B-40E1-BE26-B2C55561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689-08B7-41D7-90AE-CE42BE82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B03-4575-4D26-B676-651A3B22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8CD-EB09-40A1-9EE3-A4C2594A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2CB-EF34-4E72-8AA1-F6FDC9AB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2C20-0936-49F4-BA72-0D0DBC45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64E-56A4-4F9D-88A6-5D5EBFA3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34A4-8DD6-44A7-AFB4-1EA4A10F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27D-4F46-4514-942D-D970280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E6C-A815-453D-94E3-CDE99D44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DFE-E58B-4B8B-9B69-02CAC222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9E8F-2E64-4E44-9C78-F9885D7F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3CEB-4E11-4C8B-9D2F-D11695323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68360" y="620640"/>
            <a:ext cx="8496360" cy="31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根据费马原理证明反射定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国产玻璃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389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163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21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计算其阿贝数，并查出该玻璃的牌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求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入射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入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反射光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三个方向余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法线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水中深度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有一发光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面垂直于水面，求射出水面折射线的延长线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深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入射角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1581120" y="4822920"/>
            <a:ext cx="6192720" cy="20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 flipV="1">
            <a:off x="3238560" y="4822920"/>
            <a:ext cx="2808360" cy="17287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1509840" y="4822920"/>
            <a:ext cx="63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1"/>
          <p:cNvSpPr/>
          <p:nvPr/>
        </p:nvSpPr>
        <p:spPr>
          <a:xfrm>
            <a:off x="3238560" y="4246560"/>
            <a:ext cx="0" cy="25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12"/>
          <p:cNvSpPr/>
          <p:nvPr/>
        </p:nvSpPr>
        <p:spPr>
          <a:xfrm>
            <a:off x="3165480" y="6478560"/>
            <a:ext cx="144360" cy="144360"/>
          </a:xfrm>
          <a:prstGeom prst="ellipse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3"/>
          <p:cNvSpPr/>
          <p:nvPr/>
        </p:nvSpPr>
        <p:spPr>
          <a:xfrm flipV="1">
            <a:off x="3238560" y="5753160"/>
            <a:ext cx="1295280" cy="798480"/>
          </a:xfrm>
          <a:prstGeom prst="line">
            <a:avLst/>
          </a:prstGeom>
          <a:ln w="2844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4"/>
          <p:cNvSpPr/>
          <p:nvPr/>
        </p:nvSpPr>
        <p:spPr>
          <a:xfrm flipV="1">
            <a:off x="6046920" y="4225680"/>
            <a:ext cx="1676160" cy="600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5"/>
          <p:cNvSpPr/>
          <p:nvPr/>
        </p:nvSpPr>
        <p:spPr>
          <a:xfrm flipH="1">
            <a:off x="3238560" y="4843440"/>
            <a:ext cx="2735280" cy="987480"/>
          </a:xfrm>
          <a:prstGeom prst="line">
            <a:avLst/>
          </a:prstGeom>
          <a:ln w="284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6046920" y="4246560"/>
            <a:ext cx="0" cy="23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7"/>
          <p:cNvSpPr/>
          <p:nvPr/>
        </p:nvSpPr>
        <p:spPr>
          <a:xfrm>
            <a:off x="5808600" y="5000760"/>
            <a:ext cx="219240" cy="77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8"/>
          <p:cNvSpPr/>
          <p:nvPr/>
        </p:nvSpPr>
        <p:spPr>
          <a:xfrm>
            <a:off x="6040440" y="4543560"/>
            <a:ext cx="284040" cy="1728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9"/>
          <p:cNvSpPr/>
          <p:nvPr/>
        </p:nvSpPr>
        <p:spPr>
          <a:xfrm flipH="1">
            <a:off x="2733840" y="5830920"/>
            <a:ext cx="50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2013120" y="6550200"/>
            <a:ext cx="1225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2878200" y="482292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2157480" y="4822920"/>
            <a:ext cx="0" cy="172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238560" y="4389480"/>
            <a:ext cx="28083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916360" y="4448160"/>
            <a:ext cx="36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2230560" y="5110200"/>
            <a:ext cx="1081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1725480" y="5541840"/>
            <a:ext cx="505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662200" y="5900760"/>
            <a:ext cx="9349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2878200" y="6526080"/>
            <a:ext cx="3603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6046920" y="4822920"/>
            <a:ext cx="5032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5470560" y="511020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2"/>
          <p:cNvSpPr/>
          <p:nvPr/>
        </p:nvSpPr>
        <p:spPr>
          <a:xfrm>
            <a:off x="4327560" y="40784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3"/>
          <p:cNvSpPr/>
          <p:nvPr/>
        </p:nvSpPr>
        <p:spPr>
          <a:xfrm>
            <a:off x="6046920" y="4317840"/>
            <a:ext cx="6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i</a:t>
            </a:r>
            <a:r>
              <a:rPr b="1" i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85680" y="274680"/>
            <a:ext cx="887904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球中有两个小气泡，一个在球心，一个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径处。沿两气泡连线方向，在球的两侧观察这两个气泡，它们应在什么位置？如在水中观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的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它们又应在什么位置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折射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mm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, 0, 100mm, 150mm, 10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横向放大率各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玻璃球直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玻璃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一束平行光射到玻璃球上，其汇聚点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玻璃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端面为凸的半球面，半径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50mm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两球心位于玻璃棒的中心轴线上。一箭头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垂直位于左端球面顶点之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垂直于玻璃棒轴线。试画出结构简图，并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箭头经玻璃棒成像在什么位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整个玻璃棒的垂轴放大率为多少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物位于半径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凹面镜前什么位置时，可分别得到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、放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、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实像和缩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的虚像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68360" y="549360"/>
            <a:ext cx="84963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已知一个透镜把物体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当透镜向物体移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物体将被放大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个薄透镜对某一物体成实像，放大率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以另一薄透镜紧贴此薄透镜，则见像向透镜方向移动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放大率为原来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两薄透镜的焦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束平行光入射到平凸透镜上，汇聚于透镜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。如在此透镜凸面上镀反射膜，则平行光汇聚于透镜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透镜折射率和凸面曲率半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试以两个薄透镜按下列要求组成光学系统：两透镜间距不变，物距任意而倍率不变；物距不变，两透镜间隔任意改变，倍率不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一块厚透镜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.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1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3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求该透镜的焦距及基点位置。如果物距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像在何处？如果平行光入射时，使透镜绕一和光轴垂直的轴转动，而要求像点位置不变，问该轴安装在何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468360" y="549360"/>
            <a:ext cx="849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由两薄透镜组成的对无穷远物成像的短焦距物镜，已知其焦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筒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6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后工作距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求系统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有一玻璃半球，折射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半径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平面镀反射层，一高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小物体放在球面顶点前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m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，求经过该玻璃半球最后成像的位置及像的虚实、正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下图所示的两透镜组成的光学系统，两透镜的基点已知，图解法求物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两透镜后的成像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1258920" y="455760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66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537696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566100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541760" y="45338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65400" y="453384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216160" y="4576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813720" y="456732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1330200" y="4611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621240" y="455436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944800" y="45356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016600" y="454968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586480" y="454500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1353960" y="4440240"/>
            <a:ext cx="5702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221616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0" y="4440240"/>
            <a:ext cx="569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9"/>
          <p:cNvSpPr/>
          <p:nvPr/>
        </p:nvSpPr>
        <p:spPr>
          <a:xfrm>
            <a:off x="3395520" y="328608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3244680" y="444960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52908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523872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5522760" y="4452840"/>
            <a:ext cx="5702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6821640" y="4449600"/>
            <a:ext cx="569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3965400" y="4448160"/>
            <a:ext cx="5684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468360" y="549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章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画出一次反射的直角棱镜、二次反射的直角棱镜、直角屋脊棱镜、五角棱镜的主截面图，并判断它们各自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详细计算列曼棱镜和列曼屋脊棱镜的展开长度。（具体结构请查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光学技术手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如图所示的光学测微系统，光学透镜焦距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推导其测量微小角位移原理，即反射镜上距光轴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的某点的微小线位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推导其与标尺上刻度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关系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花岗岩"/>
          <p:cNvPicPr/>
          <p:nvPr/>
        </p:nvPicPr>
        <p:blipFill>
          <a:blip r:embed="rId1"/>
          <a:stretch/>
        </p:blipFill>
        <p:spPr>
          <a:xfrm>
            <a:off x="2050920" y="3716280"/>
            <a:ext cx="48960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68360" y="549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某二平面镜系统，光线以与其中的一个镜面平行入射，经两次反射后，出射光线与另一镜面平行，求此二平面镜的夹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判断如图所示的光学系统的成像方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花岗岩"/>
          <p:cNvPicPr/>
          <p:nvPr/>
        </p:nvPicPr>
        <p:blipFill>
          <a:blip r:embed="rId1"/>
          <a:stretch/>
        </p:blipFill>
        <p:spPr>
          <a:xfrm>
            <a:off x="2700360" y="2133720"/>
            <a:ext cx="3168720" cy="25621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5178600" y="2948040"/>
            <a:ext cx="490320" cy="6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AutoShape 5"/>
          <p:cNvCxnSpPr/>
          <p:nvPr/>
        </p:nvCxnSpPr>
        <p:spPr>
          <a:xfrm>
            <a:off x="3419640" y="270792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99" name="Rectangle 6"/>
          <p:cNvSpPr/>
          <p:nvPr/>
        </p:nvSpPr>
        <p:spPr>
          <a:xfrm>
            <a:off x="2700360" y="2133720"/>
            <a:ext cx="7192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AutoShape 7"/>
          <p:cNvCxnSpPr/>
          <p:nvPr/>
        </p:nvCxnSpPr>
        <p:spPr>
          <a:xfrm flipV="1">
            <a:off x="3419280" y="2401560"/>
            <a:ext cx="108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</p:cxnSp>
      <p:sp>
        <p:nvSpPr>
          <p:cNvPr id="101" name="Text Box 8"/>
          <p:cNvSpPr/>
          <p:nvPr/>
        </p:nvSpPr>
        <p:spPr>
          <a:xfrm>
            <a:off x="3301920" y="210996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3381480" y="2655720"/>
            <a:ext cx="10800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3309840" y="2565360"/>
            <a:ext cx="343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156120" y="2522520"/>
            <a:ext cx="3427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549600" y="2401920"/>
            <a:ext cx="343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14:49:45Z</dcterms:created>
  <dc:creator>Tanqf</dc:creator>
  <dc:description/>
  <dc:language>en-US</dc:language>
  <cp:lastModifiedBy>Optics</cp:lastModifiedBy>
  <dcterms:modified xsi:type="dcterms:W3CDTF">2015-02-03T13:57:23Z</dcterms:modified>
  <cp:revision>234</cp:revision>
  <dc:subject/>
  <dc:title>实践教学调研小结及思考</dc:title>
</cp:coreProperties>
</file>