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B53A1-D7E5-4DBD-A4CE-7D416CE1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A8382-2563-4561-A986-3B90E4D3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8CB3D-8286-408D-A92D-69EB19AB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10A01-8247-496E-A393-0B392B6C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A64F-B0E8-49B5-8DAA-C9763E49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05CC-A1C7-4A6B-9ACF-158D0BEC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B8E3-F5FC-40D0-943B-002891F0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6671-89FB-46E8-AF0F-E5F46C16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6867-1AA3-4388-896B-37C02409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575B-C156-4B63-B28B-98ABC9B7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6FEF-5F10-4ACB-A84C-A47B2D78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21BAA-4702-484E-82A1-EFCC5239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9731-25AD-4FCB-94D4-895521AB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E6E5-9397-4348-85AB-F8A6D170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E535-C8A2-4939-AE65-57C4F9F1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419A-6BF7-4BE2-95F3-CCB4F8B0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AC54-E5A2-479C-BD9C-FD7F3C6B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7FD6B-4FE6-4263-B11F-5FAB0AB3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39268-4601-4D13-BC93-CC13105E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08EFE-4189-4109-9154-00E0BA4A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C40A3-CCB2-4426-93B4-79A43455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973C9-DF40-4D26-9CAF-D120E682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9AEA1-BDBD-4AF4-A88D-F5C12AAA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A77E4-8D1F-4E5F-8E47-F03CED69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5FB5-F6D8-4AA5-B91E-919C7E1825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015D-13F4-4324-94C1-CB1D2B168C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mailto:ykong80@sohu.co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华文行楷"/>
              </a:rPr>
              <a:t>设计实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成像物镜设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676520" y="3808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Step 4: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输入孔径类型</a:t>
            </a: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波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648320" cy="356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424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133720" y="4572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Step 5: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同比缩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5648040" cy="4419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9433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772400" cy="4454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85800" y="8380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2133720" y="4572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Step 6: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视场设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2666880" y="457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Step 7: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77240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6705360" cy="5081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3733560" cy="5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rcRect l="0" t="10364" r="0" b="0"/>
          <a:stretch/>
        </p:blipFill>
        <p:spPr>
          <a:xfrm>
            <a:off x="304920" y="1371600"/>
            <a:ext cx="8229600" cy="4111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281916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5"/>
          <p:cNvSpPr/>
          <p:nvPr/>
        </p:nvSpPr>
        <p:spPr>
          <a:xfrm>
            <a:off x="533520" y="685800"/>
            <a:ext cx="784836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66"/>
                </a:solidFill>
                <a:latin typeface="Arial"/>
              </a:rPr>
              <a:t>评价函数操作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像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PHA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球差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OMA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彗差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STI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像散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FCUR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场曲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IST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畸变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调制传递函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MTFT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子午面传递函数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MTFS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弧矢面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MTF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MTFA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基本光学特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EFFL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焦距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MAG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近轴放大率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MAG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角放大率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EXPP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出瞳距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SFN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像方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数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边界约束条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TGT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中心厚度大于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TLT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中心厚度小于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ETGT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ETLT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（边缘厚度小于）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VGT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（曲率大于）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V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基本计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bso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绝对值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SIN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OSI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8015040" cy="32832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609480" y="533520"/>
            <a:ext cx="800100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边界约束条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两种方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GT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心厚度大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LT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心厚度小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G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L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VG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VL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缺省优化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609480" y="2971800"/>
            <a:ext cx="1524240" cy="1676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2"/>
          <a:stretch/>
        </p:blipFill>
        <p:spPr>
          <a:xfrm>
            <a:off x="5410080" y="2819520"/>
            <a:ext cx="3171960" cy="3838320"/>
          </a:xfrm>
          <a:prstGeom prst="rect">
            <a:avLst/>
          </a:prstGeom>
          <a:ln w="0">
            <a:noFill/>
          </a:ln>
        </p:spPr>
      </p:pic>
      <p:sp>
        <p:nvSpPr>
          <p:cNvPr id="160" name="Oval 9"/>
          <p:cNvSpPr/>
          <p:nvPr/>
        </p:nvSpPr>
        <p:spPr>
          <a:xfrm>
            <a:off x="5562720" y="4800600"/>
            <a:ext cx="3124080" cy="533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01040" cy="41576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609480" y="4572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光学系统设计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838080" y="1447920"/>
            <a:ext cx="739152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光学系统设计过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确定设计指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光学系统外形尺寸计算，可行性分析，设计指标修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光学系统初始结构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像差平衡，必要时修改初始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、像质评价与公差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、绘制光学系统图、零件图（我们不要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、完成设计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2666880" y="457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Step 8: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像质评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2895480" y="3962520"/>
            <a:ext cx="3065760" cy="2698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3055680" cy="2698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/>
          <p:cNvPicPr/>
          <p:nvPr/>
        </p:nvPicPr>
        <p:blipFill>
          <a:blip r:embed="rId3"/>
          <a:stretch/>
        </p:blipFill>
        <p:spPr>
          <a:xfrm>
            <a:off x="990720" y="1143000"/>
            <a:ext cx="30272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未命名"/>
          <p:cNvPicPr/>
          <p:nvPr/>
        </p:nvPicPr>
        <p:blipFill>
          <a:blip r:embed="rId1"/>
          <a:stretch/>
        </p:blipFill>
        <p:spPr>
          <a:xfrm>
            <a:off x="1905120" y="914400"/>
            <a:ext cx="500544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2666880" y="457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Step 9: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给出报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419360" cy="39225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04920" y="1295280"/>
            <a:ext cx="8381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电子文件：学号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ZEX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发到邮箱：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ykong80@sohu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纸质文件：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ystem Data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port Graphic 6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交给班长，收齐后交给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5819760" cy="1476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2724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2514600" y="457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Step 10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：评分标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762120" y="1905120"/>
            <a:ext cx="77724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设计结果应达到指标要求，在同样像质情况下，片数少的得分比片数多的高，材料普通的得分比材料贵重的高；在同样结构情况下，最低的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MTF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值高的得分高，材料普通的得分高；同样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MTF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情况下，弥散斑小的比弥散斑大的得分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1"/>
          <p:cNvSpPr/>
          <p:nvPr/>
        </p:nvSpPr>
        <p:spPr>
          <a:xfrm>
            <a:off x="304920" y="1166760"/>
            <a:ext cx="883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评价函数操作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HA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球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A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彗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I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像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UR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场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畸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调制传递函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FT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午面传递函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FS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弧矢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F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FA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基本光学特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L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焦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AG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近轴放大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AG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角放大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P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瞳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FN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像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边界约束条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T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心厚度大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LT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心厚度小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G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LT CVG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基本计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绝对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N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I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边界约束条件： 两种方法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T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心厚度大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LT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心厚度小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G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LT CVG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L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缺省优化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-2743200" y="0"/>
            <a:ext cx="1417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381880" cy="61275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990720" y="6858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光学设计流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304920" y="6094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光学设计初始结构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676520" y="1905120"/>
            <a:ext cx="617220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计算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计算结合经验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验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查资料法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径、视场、波长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焦距，整体缩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3049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查资料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04920" y="1905120"/>
            <a:ext cx="2743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E.F.L----Eff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Focus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0" lang="zh-CN" sz="2200" spc="-1" strike="noStrike">
                <a:solidFill>
                  <a:srgbClr val="0000ff"/>
                </a:solidFill>
                <a:latin typeface="Times New Roman"/>
              </a:rPr>
              <a:t>（有效焦距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B.F.L----Back Foc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0" lang="zh-CN" sz="2200" spc="-1" strike="noStrike">
                <a:solidFill>
                  <a:srgbClr val="0000ff"/>
                </a:solidFill>
                <a:latin typeface="Times New Roman"/>
              </a:rPr>
              <a:t>（后工作距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FNo.----F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0" lang="zh-CN" sz="2200" spc="-1" strike="noStrike">
                <a:solidFill>
                  <a:srgbClr val="0000ff"/>
                </a:solidFill>
                <a:latin typeface="Times New Roman"/>
              </a:rPr>
              <a:t>（相对孔径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F.A.----Field Ang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ff"/>
                </a:solidFill>
                <a:latin typeface="Times New Roman"/>
              </a:rPr>
              <a:t>视场角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586728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3049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照相物镜设计实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066680" y="266688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62120" y="1600200"/>
            <a:ext cx="73152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照相物镜的技术指标要求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焦距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’=9.6m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焦距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’=9.6m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对孔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/f’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小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/2.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像传感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/2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寸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C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像面大小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32mm×5.76m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工作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gt;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可见光波段设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种色光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主波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像质量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TF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% @100 lp/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707 &gt;35%@100 lp/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大畸变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76212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Step 1: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确定照相物镜的基本性能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762120" y="1752480"/>
            <a:ext cx="70102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焦距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’=9.6m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No.&gt;1/2.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高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’=sq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76^2+4.32^2)/2=3.6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场角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t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’/f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20.5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工作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gt;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远距比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gt;5/9.6=0.5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可见光波段设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种色光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主波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像质量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TF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gt;40%@100 lp/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707 &gt;35%@100 lp/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大畸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9"/>
          <p:cNvGrpSpPr/>
          <p:nvPr/>
        </p:nvGrpSpPr>
        <p:grpSpPr>
          <a:xfrm>
            <a:off x="5854680" y="1003320"/>
            <a:ext cx="3352680" cy="2026440"/>
            <a:chOff x="5854680" y="1003320"/>
            <a:chExt cx="3352680" cy="2026440"/>
          </a:xfrm>
        </p:grpSpPr>
        <p:sp>
          <p:nvSpPr>
            <p:cNvPr id="123" name="Rectangle 7"/>
            <p:cNvSpPr/>
            <p:nvPr/>
          </p:nvSpPr>
          <p:spPr>
            <a:xfrm>
              <a:off x="6464160" y="1473120"/>
              <a:ext cx="1600200" cy="990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5854680" y="196848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7264440" y="10033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>
              <a:off x="6464160" y="23241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>
              <a:off x="8064360" y="2298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>
              <a:off x="6464160" y="2692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>
              <a:off x="7873920" y="1473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>
              <a:off x="7899120" y="2463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8292960" y="147312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6"/>
            <p:cNvSpPr/>
            <p:nvPr/>
          </p:nvSpPr>
          <p:spPr>
            <a:xfrm>
              <a:off x="6845040" y="269244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.76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7"/>
            <p:cNvSpPr/>
            <p:nvPr/>
          </p:nvSpPr>
          <p:spPr>
            <a:xfrm>
              <a:off x="8216640" y="162540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.32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H="1" flipV="1">
              <a:off x="6463800" y="147312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2209680" y="3808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Step 2: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确定初始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1550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2209680" y="3808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Step 3: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输入初始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53452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UJIE</cp:lastModifiedBy>
  <dcterms:modified xsi:type="dcterms:W3CDTF">2010-06-06T10:15:3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